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014AE-1C25-4CF9-A190-48A9BC18D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C10E-61D1-42F3-BDD8-FD551354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16FA1-6A90-43D1-9850-9F1E31E66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C592B-2023-4B49-A8D3-2E7E70A42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F06A-77B6-4320-87E2-677B0E93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3971-40DB-479B-8278-D2E21329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5608D-D915-43B8-9704-B390B1BA5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32CE4-EEB0-48AB-95C5-53D00E8D0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7C3C-C022-4332-83EF-0B568715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5FBF-40EF-453A-8E94-52B27A4B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8F60-6EB0-4A4A-ACE9-1F76DD34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50B4-59B0-4A56-AC7C-A26F2FA7A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9BB2-2C89-4933-9AA8-A139C8E03E3B}"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39640" y="1267920"/>
            <a:ext cx="8229600" cy="35290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Assim, foi necessário traçar o perfil das bibliotecas e dos gestores  das bibliotecas que atuam em nossas escolas, para que pudéssemos planejar as formações e as ações que resultariam na otimização do uso de seus espaç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Conteúdo 2"/>
          <p:cNvSpPr/>
          <p:nvPr/>
        </p:nvSpPr>
        <p:spPr>
          <a:xfrm>
            <a:off x="536400" y="2133720"/>
            <a:ext cx="8229600" cy="14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Atualização da situação das Bibliotecas Escolares na Rede Estadual de Educação do 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68360" y="1844640"/>
          <a:ext cx="8064360" cy="3292560"/>
        </p:xfrm>
        <a:graphic>
          <a:graphicData uri="http://schemas.openxmlformats.org/drawingml/2006/table">
            <a:tbl>
              <a:tblPr/>
              <a:tblGrid>
                <a:gridCol w="4632120"/>
                <a:gridCol w="1851120"/>
                <a:gridCol w="1581120"/>
              </a:tblGrid>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QUALIFICAÇÃO DOS SERVIDORES</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QUANTIDADE</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Bibliotecári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2</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0,3</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Coordenador Readaptad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5</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7</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écnico em biblioteconomia</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56</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8,7</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dministrativo Readaptad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69</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23,1</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rofessor Readaptad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68</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56,2</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6" name="Rectangle 1"/>
          <p:cNvSpPr/>
          <p:nvPr/>
        </p:nvSpPr>
        <p:spPr>
          <a:xfrm>
            <a:off x="468360" y="555120"/>
            <a:ext cx="8512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erfil dos Servidores que atuam nas Bibliotecas Escolares – MS – 2015</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1"/>
          <p:cNvSpPr/>
          <p:nvPr/>
        </p:nvSpPr>
        <p:spPr>
          <a:xfrm>
            <a:off x="324000" y="5401800"/>
            <a:ext cx="85122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bs: A quantidade de servidores não refere-se ao quantitativo de escolas, ou seja, algumas escolas apontaram mais de um servidor atuando em sua biblioteca, enquanto que outras não os possue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468360" y="2205000"/>
          <a:ext cx="8351640" cy="2743200"/>
        </p:xfrm>
        <a:graphic>
          <a:graphicData uri="http://schemas.openxmlformats.org/drawingml/2006/table">
            <a:tbl>
              <a:tblPr/>
              <a:tblGrid>
                <a:gridCol w="5400720"/>
                <a:gridCol w="2950920"/>
              </a:tblGrid>
              <a:tr h="549000">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ITUAÇÃ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QUANTIDADE</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Construção/projeto Biblioteca Padrã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64</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ala Adaptada</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78</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ala Própria</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91</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Não possuem/ espaço alternativ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31</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9" name="Rectangle 1"/>
          <p:cNvSpPr/>
          <p:nvPr/>
        </p:nvSpPr>
        <p:spPr>
          <a:xfrm>
            <a:off x="468360" y="983160"/>
            <a:ext cx="8351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tuação Bibliotecas Escolares da Rede Estadual de Ensino de Mato Grosso do Sul –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000" y="1052640"/>
            <a:ext cx="8496360" cy="4525920"/>
          </a:xfrm>
          <a:prstGeom prst="rect">
            <a:avLst/>
          </a:prstGeom>
          <a:noFill/>
          <a:ln w="0">
            <a:noFill/>
          </a:ln>
        </p:spPr>
        <p:txBody>
          <a:bodyPr anchor="t">
            <a:normAutofit fontScale="97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entre as 364 escolas mantidas pela Rede Estadual de Ensino de Mato Grosso do Sul, 175 não possuem servidores atuando nas bibliotecas. Considerando que 131 escolas não possuem bibliotecas, pode-se afirmar que 44 bibliotecas escolares da rede funcionam sem nenhum tipo de servidor.</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Nas 178 escolas que possuem bibliotecas ou estão em fase de construção tem-se 299 servidores atuando nestes espaç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3333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Participação do NTE</a:t>
            </a:r>
            <a:endParaRPr b="0" lang="en-US" sz="2800" spc="-1" strike="noStrike">
              <a:solidFill>
                <a:srgbClr val="000000"/>
              </a:solidFill>
              <a:latin typeface="Calibri"/>
            </a:endParaRPr>
          </a:p>
        </p:txBody>
      </p:sp>
      <p:sp>
        <p:nvSpPr>
          <p:cNvPr id="72" name=""/>
          <p:cNvSpPr txBox="1"/>
          <p:nvPr/>
        </p:nvSpPr>
        <p:spPr>
          <a:xfrm>
            <a:off x="179280" y="1052280"/>
            <a:ext cx="8569440" cy="5329080"/>
          </a:xfrm>
          <a:prstGeom prst="rect">
            <a:avLst/>
          </a:prstGeom>
          <a:noFill/>
          <a:ln w="0">
            <a:noFill/>
          </a:ln>
        </p:spPr>
        <p:txBody>
          <a:bodyPr anchor="t">
            <a:normAutofit fontScale="98000"/>
          </a:bodyPr>
          <a:p>
            <a:pPr marL="335880" indent="-3358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Diretor: </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Divulgar o curso entre os diretores e convocar  o GB das escolas sob sua jurisdição para a inscrição no curso.</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Indicar um </a:t>
            </a:r>
            <a:r>
              <a:rPr b="1" lang="pt-BR" sz="2200" spc="-1" strike="noStrike">
                <a:solidFill>
                  <a:srgbClr val="000000"/>
                </a:solidFill>
                <a:latin typeface="Calibri"/>
              </a:rPr>
              <a:t>multiplicador referência </a:t>
            </a:r>
            <a:r>
              <a:rPr b="0" lang="pt-BR" sz="2200" spc="-1" strike="noStrike">
                <a:solidFill>
                  <a:srgbClr val="000000"/>
                </a:solidFill>
                <a:latin typeface="Calibri"/>
              </a:rPr>
              <a:t>para ser o meio de comunicação entre COTED e biblioteca</a:t>
            </a:r>
            <a:r>
              <a:rPr b="1" lang="pt-BR" sz="2200" spc="-1" strike="noStrike">
                <a:solidFill>
                  <a:srgbClr val="000000"/>
                </a:solidFill>
                <a:latin typeface="Calibri"/>
              </a:rPr>
              <a:t>. </a:t>
            </a:r>
            <a:r>
              <a:rPr b="0" lang="pt-BR" sz="2200" spc="-1" strike="noStrike">
                <a:solidFill>
                  <a:srgbClr val="000000"/>
                </a:solidFill>
                <a:latin typeface="Calibri"/>
              </a:rPr>
              <a:t>(Formação na COTED ou Web).</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companhar e possibilitar as ações referentes à biblioteca no NTE.</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Multiplicador referência: </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Sistematizar as informações, organizar o curso no NTE . </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companhar  as ações que compete aos gestores das bibliotecas das escolas sob sua responsabilidade. </a:t>
            </a:r>
            <a:endParaRPr b="0" lang="en-US" sz="2200" spc="-1" strike="noStrike">
              <a:solidFill>
                <a:srgbClr val="000000"/>
              </a:solidFill>
              <a:latin typeface="Calibri"/>
            </a:endParaRPr>
          </a:p>
          <a:p>
            <a:pPr lvl="1" marL="727920" indent="-280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Orientar o PROGETEC quanto à sua função, nesta ação.</a:t>
            </a:r>
            <a:endParaRPr b="0" lang="en-US" sz="24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Mediar as informações entre COTED e  demais multiplicadores.</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Tutoriar o curso “Formação Para Gestores de Bibliotecas Escolares”.</a:t>
            </a:r>
            <a:endParaRPr b="0" lang="en-US" sz="2200" spc="-1" strike="noStrike">
              <a:solidFill>
                <a:srgbClr val="000000"/>
              </a:solidFill>
              <a:latin typeface="Calibri"/>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3640" y="691920"/>
            <a:ext cx="8569080" cy="532764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Demais multiplicadores:</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articipar da organização  do curso no NTE .</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companhar  as ações que compete aos gestores das bibliotecas das escolas sob sua responsabilidade.</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Orientar o PROGETEC quanto à sua função, nesta ação.</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utoriar o curso “Formação Para Gestores de Bibliotecas Escolares” se necessário</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Repassar informações sobre o desempenho das ações da biblioteca da escola sob sua responsabilidade, ao multiplicador referência do NTE.</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PROGETEC: </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uxiliar o gestor da biblioteca quanto ao (re)conhecimento do ambiente virtual Moodle, à inscrição  e às possíveis dificuldades que este encontrar para a realização do curso.</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Registrar e repassar informações sobre o desempenho das atividades realizadas na biblioteca da escola  ao seu multiplicador.</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1"/>
          <p:cNvSpPr>
            <a:spLocks noGrp="1"/>
          </p:cNvSpPr>
          <p:nvPr>
            <p:ph type="title"/>
          </p:nvPr>
        </p:nvSpPr>
        <p:spPr>
          <a:xfrm>
            <a:off x="324000" y="18864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Participação do 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915920"/>
            <a:ext cx="8229600" cy="43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Obrigado!</a:t>
            </a:r>
            <a:br>
              <a:rPr sz="4400"/>
            </a:br>
            <a:br>
              <a:rPr sz="4400"/>
            </a:br>
            <a:br>
              <a:rPr sz="4400"/>
            </a:br>
            <a:br>
              <a:rPr sz="4400"/>
            </a:br>
            <a:r>
              <a:rPr b="0" lang="pt-BR" sz="2000" spc="-1" strike="noStrike">
                <a:solidFill>
                  <a:srgbClr val="000000"/>
                </a:solidFill>
                <a:latin typeface="Calibri"/>
              </a:rPr>
              <a:t>emlazzari@sed.ms.gov.b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ângulo 1"/>
          <p:cNvSpPr/>
          <p:nvPr/>
        </p:nvSpPr>
        <p:spPr>
          <a:xfrm>
            <a:off x="765000" y="2421000"/>
            <a:ext cx="799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1º ENCONTRO DE MULTIPLICADORES PNLD E PNBE DO M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endParaRPr b="0" lang="en-US" sz="2800" spc="-1" strike="noStrike">
              <a:solidFill>
                <a:srgbClr val="000000"/>
              </a:solidFill>
              <a:latin typeface="Arial"/>
            </a:endParaRPr>
          </a:p>
        </p:txBody>
      </p:sp>
      <p:sp>
        <p:nvSpPr>
          <p:cNvPr id="42" name="Retângulo 2"/>
          <p:cNvSpPr/>
          <p:nvPr/>
        </p:nvSpPr>
        <p:spPr>
          <a:xfrm>
            <a:off x="755640" y="6021360"/>
            <a:ext cx="74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68360" y="2060280"/>
            <a:ext cx="8229600" cy="19018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Programa Nacional de Bibliotecas Escolares (PNBE), Atualização da situação das Bibliotecas Escolares na REE e papel do N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Programa Nacional de Bibliotecas Escolares (PNBE)</a:t>
            </a:r>
            <a:endParaRPr b="0" lang="en-US" sz="2800" spc="-1" strike="noStrike">
              <a:solidFill>
                <a:srgbClr val="000000"/>
              </a:solidFill>
              <a:latin typeface="Calibri"/>
            </a:endParaRPr>
          </a:p>
        </p:txBody>
      </p:sp>
      <p:sp>
        <p:nvSpPr>
          <p:cNvPr id="45" name=""/>
          <p:cNvSpPr txBox="1"/>
          <p:nvPr/>
        </p:nvSpPr>
        <p:spPr>
          <a:xfrm>
            <a:off x="468360" y="1341000"/>
            <a:ext cx="8229600" cy="28083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Programa do FNDE desenvolvido desde 1997, tem o objetivo de promover o acesso à cultura e o incentivo à leitura nos alunos e professores por meio da distribuição de acervos de obras de literatura, de pesquisa e de referência</a:t>
            </a:r>
            <a:endParaRPr b="0" lang="en-US" sz="2800" spc="-1" strike="noStrike">
              <a:solidFill>
                <a:srgbClr val="000000"/>
              </a:solidFill>
              <a:latin typeface="Calibri"/>
            </a:endParaRPr>
          </a:p>
        </p:txBody>
      </p:sp>
      <p:pic>
        <p:nvPicPr>
          <p:cNvPr id="46" name="Picture 2" descr="http://2.bp.blogspot.com/-tAwT6sxLdiI/Uf0HtpisEHI/AAAAAAAADrI/eNPxPBP_vjw/s640/Incentivo+%C3%A0+Leitura.jpg"/>
          <p:cNvPicPr/>
          <p:nvPr/>
        </p:nvPicPr>
        <p:blipFill>
          <a:blip r:embed="rId1"/>
          <a:srcRect l="50003" t="0" r="0" b="0"/>
          <a:stretch/>
        </p:blipFill>
        <p:spPr>
          <a:xfrm>
            <a:off x="4678200" y="3429000"/>
            <a:ext cx="3048120" cy="2666880"/>
          </a:xfrm>
          <a:prstGeom prst="rect">
            <a:avLst/>
          </a:prstGeom>
          <a:ln w="0">
            <a:noFill/>
          </a:ln>
        </p:spPr>
      </p:pic>
      <p:sp>
        <p:nvSpPr>
          <p:cNvPr id="47" name="Retângulo 3"/>
          <p:cNvSpPr/>
          <p:nvPr/>
        </p:nvSpPr>
        <p:spPr>
          <a:xfrm>
            <a:off x="3916440" y="61261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http://www.mundodoslivros.com/2013/08/tag-incentivo-leitura.htm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82240" y="1557360"/>
            <a:ext cx="532908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Hoje, o programa atende de forma universal e gratuita todas as escolas públicas de educação básica cadastradas no Censo Escolar.</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https://encrypted-tbn2.gstatic.com/images?q=tbn:ANd9GcRIEPovgzOiKZFYuLODkr45UngPB4zHjnhQY6ADFuZRScrKGQai"/>
          <p:cNvPicPr/>
          <p:nvPr/>
        </p:nvPicPr>
        <p:blipFill>
          <a:blip r:embed="rId1"/>
          <a:srcRect l="0" t="0" r="10413" b="0"/>
          <a:stretch/>
        </p:blipFill>
        <p:spPr>
          <a:xfrm>
            <a:off x="5724360" y="1800360"/>
            <a:ext cx="2735280" cy="4168800"/>
          </a:xfrm>
          <a:prstGeom prst="rect">
            <a:avLst/>
          </a:prstGeom>
          <a:ln w="0">
            <a:noFill/>
          </a:ln>
        </p:spPr>
      </p:pic>
      <p:sp>
        <p:nvSpPr>
          <p:cNvPr id="53" name="Retângulo 6"/>
          <p:cNvSpPr/>
          <p:nvPr/>
        </p:nvSpPr>
        <p:spPr>
          <a:xfrm>
            <a:off x="6467760" y="6014880"/>
            <a:ext cx="1985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http://www.dreamstime.com/</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95280" y="907920"/>
            <a:ext cx="842472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A partir da </a:t>
            </a:r>
            <a:r>
              <a:rPr b="1" lang="pt-BR" sz="3200" spc="-1" strike="noStrike">
                <a:solidFill>
                  <a:srgbClr val="000000"/>
                </a:solidFill>
                <a:latin typeface="Calibri"/>
              </a:rPr>
              <a:t>LEI Nº 12.244, DE 24 DE MAIO DE 2010 </a:t>
            </a:r>
            <a:r>
              <a:rPr b="0" lang="pt-BR" sz="3200" spc="-1" strike="noStrike">
                <a:solidFill>
                  <a:srgbClr val="000000"/>
                </a:solidFill>
                <a:latin typeface="Calibri"/>
              </a:rPr>
              <a:t>as Secretarias Estaduais e Municipais de Educação,</a:t>
            </a:r>
            <a:r>
              <a:rPr b="1" lang="pt-BR" sz="3200" spc="-1" strike="noStrike">
                <a:solidFill>
                  <a:srgbClr val="000000"/>
                </a:solidFill>
                <a:latin typeface="Calibri"/>
              </a:rPr>
              <a:t> </a:t>
            </a:r>
            <a:r>
              <a:rPr b="0" lang="pt-BR" sz="3200" spc="-1" strike="noStrike">
                <a:solidFill>
                  <a:srgbClr val="000000"/>
                </a:solidFill>
                <a:latin typeface="Calibri"/>
              </a:rPr>
              <a:t>precisaram dar mais atenção as bibliotecas em suas escolas.</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Esta lei dispõe sobre a universalização das bibliotecas na instituições de ensino do País e dá um prazo de 10 anos para que seja efetivada.</a:t>
            </a:r>
            <a:endParaRPr b="0" lang="en-US" sz="3200" spc="-1" strike="noStrike">
              <a:solidFill>
                <a:srgbClr val="000000"/>
              </a:solidFill>
              <a:latin typeface="Calibri"/>
            </a:endParaRPr>
          </a:p>
        </p:txBody>
      </p:sp>
      <p:pic>
        <p:nvPicPr>
          <p:cNvPr id="55" name="Picture 2" descr="http://www.paraiba.com.br/static/images/noticias/normal/1300905905202-simbolo-da-justica.jpg"/>
          <p:cNvPicPr/>
          <p:nvPr/>
        </p:nvPicPr>
        <p:blipFill>
          <a:blip r:embed="rId1"/>
          <a:stretch/>
        </p:blipFill>
        <p:spPr>
          <a:xfrm>
            <a:off x="2987640" y="4446720"/>
            <a:ext cx="2616120" cy="1962000"/>
          </a:xfrm>
          <a:prstGeom prst="rect">
            <a:avLst/>
          </a:prstGeom>
          <a:ln w="0">
            <a:noFill/>
          </a:ln>
        </p:spPr>
      </p:pic>
      <p:sp>
        <p:nvSpPr>
          <p:cNvPr id="56" name="Retângulo 3"/>
          <p:cNvSpPr/>
          <p:nvPr/>
        </p:nvSpPr>
        <p:spPr>
          <a:xfrm>
            <a:off x="3497760" y="6194520"/>
            <a:ext cx="1584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www.paraiba.com.b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4920" y="836640"/>
            <a:ext cx="84978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Importante saber que a Lei nº 12.244 estabelece  no Art. 2º que “biblioteca escolar é a coleção de livros, materiais videográficos e documentos registrados em qualquer suporte destinados a consulta, pesquisa, estudo ou leitura”.</a:t>
            </a:r>
            <a:endParaRPr b="0" lang="en-US" sz="3200" spc="-1" strike="noStrike">
              <a:solidFill>
                <a:srgbClr val="000000"/>
              </a:solidFill>
              <a:latin typeface="Calibri"/>
            </a:endParaRPr>
          </a:p>
        </p:txBody>
      </p:sp>
      <p:pic>
        <p:nvPicPr>
          <p:cNvPr id="58" name="Picture 2" descr="http://image.slidesharecdn.com/biblioteca-apresentacao-110228105830-phpapp02/95/biblioteca-central-apresentao-4-728.jpg?cb=1298892511"/>
          <p:cNvPicPr/>
          <p:nvPr/>
        </p:nvPicPr>
        <p:blipFill>
          <a:blip r:embed="rId1"/>
          <a:srcRect l="0" t="0" r="0" b="39734"/>
          <a:stretch/>
        </p:blipFill>
        <p:spPr>
          <a:xfrm>
            <a:off x="1258920" y="3429000"/>
            <a:ext cx="6934320" cy="31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3640" y="1052640"/>
            <a:ext cx="856908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No Parágrafo único do Art. 2º, fica determinado que “Será obrigatório um acervo de livros na biblioteca de, no mínimo, um título para cada aluno matriculado, cabendo ao respectivo sistema de ensino determinar a ampliação deste acervo conforme sua realidade, bem como divulgar orientações de guarda, preservação, organização e funcionamento das bibliotecas escolares.</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7280" y="764640"/>
            <a:ext cx="8229600" cy="30243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iante das determinações da Lei nº 12.244, a Secretaria Estadual de Educação do MS realizou concursos para Bibliotecários e Técnicos em Biblioteconomia, bem como formações para gestores de bibliotecas das escolas da rede. </a:t>
            </a:r>
            <a:endParaRPr b="0" lang="en-US" sz="3200" spc="-1" strike="noStrike">
              <a:solidFill>
                <a:srgbClr val="000000"/>
              </a:solidFill>
              <a:latin typeface="Calibri"/>
            </a:endParaRPr>
          </a:p>
        </p:txBody>
      </p:sp>
      <p:pic>
        <p:nvPicPr>
          <p:cNvPr id="61" name="Picture 2" descr="http://c10.quickcachr.fotos.sapo.pt/i/B68119745/14227558_sUDBI.jpeg"/>
          <p:cNvPicPr/>
          <p:nvPr/>
        </p:nvPicPr>
        <p:blipFill>
          <a:blip r:embed="rId1"/>
          <a:stretch/>
        </p:blipFill>
        <p:spPr>
          <a:xfrm>
            <a:off x="2627280" y="3645000"/>
            <a:ext cx="3549600" cy="2555640"/>
          </a:xfrm>
          <a:prstGeom prst="rect">
            <a:avLst/>
          </a:prstGeom>
          <a:ln w="0">
            <a:noFill/>
          </a:ln>
        </p:spPr>
      </p:pic>
      <p:sp>
        <p:nvSpPr>
          <p:cNvPr id="62" name="Retângulo 3"/>
          <p:cNvSpPr/>
          <p:nvPr/>
        </p:nvSpPr>
        <p:spPr>
          <a:xfrm>
            <a:off x="2992680" y="6240600"/>
            <a:ext cx="2329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http://blogtailors.com/6426543.htm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0T19:28:51Z</dcterms:created>
  <dc:creator>fbaptista</dc:creator>
  <dc:description/>
  <dc:language>en-US</dc:language>
  <cp:lastModifiedBy>Escola</cp:lastModifiedBy>
  <dcterms:modified xsi:type="dcterms:W3CDTF">2016-03-14T12:04:21Z</dcterms:modified>
  <cp:revision>166</cp:revision>
  <dc:subject/>
  <dc:title>Slide 1</dc:title>
</cp:coreProperties>
</file>